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96FB-A2FD-4091-8022-3947BFA2F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china.org.cn/english/features/EthnicGroups/136914.htm" TargetMode="External"/><Relationship Id="rId2" Type="http://schemas.openxmlformats.org/officeDocument/2006/relationships/hyperlink" Target="http://www.china.org.cn/english/features/EthnicGroups/136914.htm"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ps-of-china.com/china-globe.s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hina.org.cn/english/travel/167248.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ificent Terr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uanyang County is world famous for its </a:t>
            </a:r>
            <a:r>
              <a:rPr b="0" lang="en-US" sz="1200" spc="-1" strike="noStrike" u="sng">
                <a:solidFill>
                  <a:srgbClr val="009999"/>
                </a:solidFill>
                <a:uFillTx/>
                <a:latin typeface="Arial"/>
                <a:hlinkClick r:id="rId1"/>
              </a:rPr>
              <a:t>Hani</a:t>
            </a:r>
            <a:r>
              <a:rPr b="0" lang="en-US" sz="1200" spc="-1" strike="noStrike" u="sng">
                <a:solidFill>
                  <a:srgbClr val="009999"/>
                </a:solidFill>
                <a:uFillTx/>
                <a:latin typeface="Arial"/>
                <a:hlinkClick r:id="rId2"/>
              </a:rPr>
              <a:t> </a:t>
            </a:r>
            <a:r>
              <a:rPr b="0" lang="en-US" sz="1200" spc="-1" strike="noStrike">
                <a:solidFill>
                  <a:srgbClr val="000000"/>
                </a:solidFill>
                <a:latin typeface="Arial"/>
              </a:rPr>
              <a:t>ethnic minority-constructed farming terraces that zigzag upwards over range upon range of slopes to a height of 144 to 2,000 meters. As the Hani people say, they can build and water terraces on any mountain, no matter how 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ials from the county tourism bureau recall proudly the many overseas researchers and visitors that have come to see the terraces. One official commented, "Most tourists cannot believe that the Hani people cultivate terraces using only simple hoes. They regard them as every bit as splendid as the Great Wall and the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races have a 1,300-year history, and in that time Hani farmers have perfected a rice terrace-oriented farming and seeding ecosystem. For the past 50 years, the terraces have produced between 100 to 150 kilograms, sometimes as much as 300 kilograms, of rice per Mu (a sixth of an acre), an output that compares with that of any plains area. Incredibly enough, Yuanyang, with its high mountains and steep valleys and forests, is actually a huge granary in </a:t>
            </a:r>
            <a:r>
              <a:rPr b="1" lang="en-US" sz="1200" spc="-1" strike="noStrike">
                <a:solidFill>
                  <a:srgbClr val="000000"/>
                </a:solidFill>
                <a:latin typeface="Arial"/>
              </a:rPr>
              <a:t>Yunnan Province</a:t>
            </a:r>
            <a:r>
              <a:rPr b="0" lang="en-US" sz="1200" spc="-1" strike="noStrike">
                <a:solidFill>
                  <a:srgbClr val="000000"/>
                </a:solidFill>
                <a:latin typeface="Arial"/>
              </a:rPr>
              <a:t> that was relied on heavily in the 1960s and 1970s to alleviate famine in the inland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i terraces and their irrigation system constitute ingenious agricultural innovation. Ailao Mountain's temperate climate and large scope of vegetation assures precipitation adequate to water the terraces, but equal apportionment of water to each plot on each terrace requires specialized skill. The Hani people call their method of water management, "Carving Wood to Ration Water"; villagers from each household mark different gradations on a wooden cross and place it in front of the terrace's source of water. When water flowing into the terraces reaches a specific gradation, the flow ceases. This system ensures enough water for every terraced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 Junchao, who has spent many years on research into Hani Culture, says, "As the Hani people rely on the terraces for their subsistence, there has evolved a terrace "culture," apparent in folk customs such as the Name Giving Ceremony. When a baby boy is born, a field plowing ceremony is held, whereby make-believe terraces are drawn on the courtyard floor and a seven-or eight-year-old boy apes the hoeing process. If the infant is a girl, a seven-or eight-year-old girl mimes field work with a basket on her back. It is after the ceremony that the infant is given a name and declared a true member of the village. When someone passes away, he or she is buried on the slope beside the terrace to guard it from the nether world.</a:t>
            </a:r>
            <a:br>
              <a:rPr sz="1200"/>
            </a:b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heatre – Beijing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 CE and specifically in the 1800s: song dance and martial arts (combat is symbolic more than real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chinese history and folklore – ignored the communist plays that were written for social valu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Labor in the West: http://www.apa.si.edu/ongoldmountain/gallery2/gallery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Chinese_immigration_to_the_United_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000 arrived between 1849-18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2 Chinese Exclus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1/3 less than whites because wouldn’t pay room and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foreign miners – almost exclusively Chine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Cartoon against Chinese Immigrant Labor venturing into/taking over American industries.  Painstaking coverage of land claims resulted in gold finds and profits passed on by whites. See the idle white labor and jails in th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ntent.cdlib.org/ark:/13030/hb938nb3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Labor in the West: http://www.apa.si.edu/ongoldmountain/gallery2/gallery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Chinese_immigration_to_the_United_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000 arrived between 1849-18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2 Chinese Exclus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1/3 less than whites because wouldn’t pay room and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foreign miners – almost exclusively Chi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sinessweek.com/magazine/content/04_49/b3911401.htm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ttp://www.businessweek.com/magazine/content/04_49/b3911401.htm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hina Price 30-50% les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special report (also toys, dog food, toothpaste, etc. furnitur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5+Billion in computer hardware and nearly $25 in electronics, machinery</a:t>
            </a:r>
            <a:endParaRPr b="0" lang="en-US" sz="7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nsus.gov/foreign-trade/balance/c5700.html#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City (Beijing from Ming Dynasty) with Mao’s por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udyrussian.com/MGU/China/forbidden-city1.jp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ytimes.com/2007/08/26/world/asia/26china.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conomy_of_the_People's_Republic_of_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nn.com/2007/TECH/science/06/04/china.environment/ Chinese pollu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g’an Temple – built on site of Buddhist temple from 247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ghai – China – world’s busiest port, 8</a:t>
            </a:r>
            <a:r>
              <a:rPr b="0" lang="en-US" sz="1200" spc="-1" strike="noStrike" baseline="30000">
                <a:solidFill>
                  <a:srgbClr val="000000"/>
                </a:solidFill>
                <a:latin typeface="Arial"/>
              </a:rPr>
              <a:t>th</a:t>
            </a:r>
            <a:r>
              <a:rPr b="0" lang="en-US" sz="1200" spc="-1" strike="noStrike">
                <a:solidFill>
                  <a:srgbClr val="000000"/>
                </a:solidFill>
                <a:latin typeface="Arial"/>
              </a:rPr>
              <a:t> largest city and China’s largest –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advertising, l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Jing%27an_Te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zo is US made perfume and women’s skin care company global trade/interdepend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nationalgeographic.com/places/images/lw/china_great-wall-jinshanling.jp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reat_Wall_of_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hinatravel.com/china-travel-guides/china-attractions/china-top/the-great-wall-of-china.shtm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rts.ualberta.ca/~jwilliam/baowebsite/family%20planning%20big.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nbc.msn.com/id/5953508 116-120 boys to girls ratio and 40 million more men tha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reverse this family – societal tr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492B-AD94-4E12-B91A-C8B4BFCEB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D90C8-C945-447B-A051-356F482E9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C7726-08C8-4A38-9A50-DF30EE322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53ED9-F12A-48A6-A899-303C94133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4ED27-E324-4B88-97E1-D6C85EC8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ABFEF-2477-4421-B143-3E1DB9C5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77547-1DAD-470E-8926-0ABF6B67B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BB9A4-B909-47EC-83C2-F979D1C26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851D3-E990-4703-910D-90C1EF52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18AD-BBB9-4D67-A6D5-9E6525ED6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83749-9BAA-4D6E-9C27-DF12E4D75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17B5-B8DD-4BAD-AE5F-03DB95167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5935-6EA5-465E-9E42-9D118A8E5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to China In East As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asia_ref802643_99.jpg (106555 bytes)"/>
          <p:cNvPicPr/>
          <p:nvPr/>
        </p:nvPicPr>
        <p:blipFill>
          <a:blip r:embed="rId1"/>
          <a:stretch/>
        </p:blipFill>
        <p:spPr>
          <a:xfrm>
            <a:off x="1600200" y="838080"/>
            <a:ext cx="6019920" cy="588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rcRect l="0" t="21000" r="0" b="0"/>
          <a:stretch/>
        </p:blipFill>
        <p:spPr>
          <a:xfrm>
            <a:off x="0" y="228600"/>
            <a:ext cx="10744200" cy="636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ce/Irrigation Farming</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4,000 lbs per 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Image:Beijing-Opera2.jpg"/>
          <p:cNvPicPr/>
          <p:nvPr/>
        </p:nvPicPr>
        <p:blipFill>
          <a:blip r:embed="rId1"/>
          <a:stretch/>
        </p:blipFill>
        <p:spPr>
          <a:xfrm>
            <a:off x="914400" y="762120"/>
            <a:ext cx="3800520" cy="570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ijing Oper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Theater from 700 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ce, song, and martial arts based on history and folk s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Chinese workers building the Loma Prieta Lumber Co.'s railroad, California, about 1885"/>
          <p:cNvPicPr/>
          <p:nvPr/>
        </p:nvPicPr>
        <p:blipFill>
          <a:blip r:embed="rId1"/>
          <a:stretch/>
        </p:blipFill>
        <p:spPr>
          <a:xfrm>
            <a:off x="304920" y="304920"/>
            <a:ext cx="7543800" cy="54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ese Immigration to the US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1849-82 nearly 300,000 Chinese came to the US and built the Transcontinental/California Railro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Larger Image"/>
          <p:cNvPicPr/>
          <p:nvPr/>
        </p:nvPicPr>
        <p:blipFill>
          <a:blip r:embed="rId1"/>
          <a:stretch/>
        </p:blipFill>
        <p:spPr>
          <a:xfrm>
            <a:off x="304920" y="152280"/>
            <a:ext cx="9144000" cy="688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82 Chinese Exclusion Ac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Don’t Copy&g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it enacted, That from and after the expiration of ninety days next after the passage of this act, and until the expiration of ten years next after the passage of this act, the coming of Chinese laborers to the Untied States be, . . . suspended; and during such suspension it shall not be lawful for any Chinese laborer to come, or, having so come after the expiration of said ninety days, to remain within the United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Tech Worker"/>
          <p:cNvPicPr/>
          <p:nvPr/>
        </p:nvPicPr>
        <p:blipFill>
          <a:blip r:embed="rId1"/>
          <a:stretch/>
        </p:blipFill>
        <p:spPr>
          <a:xfrm>
            <a:off x="228600" y="304920"/>
            <a:ext cx="5181480" cy="4317840"/>
          </a:xfrm>
          <a:prstGeom prst="rect">
            <a:avLst/>
          </a:prstGeom>
          <a:ln w="0">
            <a:noFill/>
          </a:ln>
        </p:spPr>
      </p:pic>
      <p:pic>
        <p:nvPicPr>
          <p:cNvPr id="94" name="" descr="Networking Equipment"/>
          <p:cNvPicPr/>
          <p:nvPr/>
        </p:nvPicPr>
        <p:blipFill>
          <a:blip r:embed="rId2"/>
          <a:stretch/>
        </p:blipFill>
        <p:spPr>
          <a:xfrm>
            <a:off x="5562720" y="28195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mports from China 2007: $321 B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Exports to China 2007:     $  65 B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Deficit of                       $256 Bi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rcRect l="0" t="0" r="0" b="14999"/>
          <a:stretch/>
        </p:blipFill>
        <p:spPr>
          <a:xfrm>
            <a:off x="152280" y="152280"/>
            <a:ext cx="8382240" cy="5343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228600" y="228600"/>
            <a:ext cx="8915400" cy="4754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s economy is growing at 11% annuall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of the world’s 20 most polluted cities are in Chin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N’T COP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ear 1: $100 + 11% growth = $111</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ear 2: $111 + 11% growth = $123.11</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ear 3: $123.11 + 11% growth = $136.6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Palace in Beijing (1368-191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 of Heav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man Mao of the Communist Pa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Image:3waterjing'anshi.jpg"/>
          <p:cNvPicPr/>
          <p:nvPr/>
        </p:nvPicPr>
        <p:blipFill>
          <a:blip r:embed="rId1"/>
          <a:stretch/>
        </p:blipFill>
        <p:spPr>
          <a:xfrm>
            <a:off x="1600200" y="228600"/>
            <a:ext cx="4971960" cy="662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ngha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Chinese 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dhist Temple from 274 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ed US Perfu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238400" y="928800"/>
            <a:ext cx="6667200" cy="50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 Wall of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00 miles long (25 feet high, 16 feet w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un 220 BCE  made of earth/w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d in 1400s with st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 million died working 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rcRect l="0" t="10754" r="0" b="0"/>
          <a:stretch/>
        </p:blipFill>
        <p:spPr>
          <a:xfrm>
            <a:off x="304920" y="457200"/>
            <a:ext cx="8839080" cy="550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hild Per Family Program in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 Area families can hav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ed 300 million more birth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Billion Peo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of 116:100 Boys to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19:49:02Z</dcterms:created>
  <dc:creator>Karoline</dc:creator>
  <dc:description/>
  <dc:language>en-US</dc:language>
  <cp:lastModifiedBy>Karoline</cp:lastModifiedBy>
  <dcterms:modified xsi:type="dcterms:W3CDTF">2008-03-31T01:15:41Z</dcterms:modified>
  <cp:revision>40</cp:revision>
  <dc:subject/>
  <dc:title>Slide 1</dc:title>
</cp:coreProperties>
</file>